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1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.jpeg" ContentType="image/jpeg"/>
  <Override PartName="/ppt/media/image15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D45-7581-4F3F-87B4-F959134D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9FD-4CEB-4DA8-995E-E07112B6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E97-9462-4872-9F1D-C21FF63E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123-058F-413D-9675-1AF69F7B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B48-929E-4E22-9982-19F9ED6B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404-F457-4787-96F0-D62FA300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9FB-9227-4214-919C-7AE8149C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F7A-F9CB-4A1C-A0CC-C2AF5307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785-A217-451B-91CD-5DE71E63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8F6-37BF-4026-9ECD-F93D20C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E45-639A-4E5E-AAAE-73B752A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D8F-F4AA-4693-A245-7534CA9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E12-B7EB-4200-84F8-1D56BC3B7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79280" y="198900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468360" y="1484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.Эффективность работы с одаренными и способными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1565776443_11"/>
          <p:cNvPicPr/>
          <p:nvPr/>
        </p:nvPicPr>
        <p:blipFill>
          <a:blip r:embed="rId4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Object 11"/>
          <p:cNvGraphicFramePr/>
          <p:nvPr/>
        </p:nvGraphicFramePr>
        <p:xfrm>
          <a:off x="0" y="2421000"/>
          <a:ext cx="9144000" cy="417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421000"/>
                    <a:ext cx="9144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12" descr="1565776443_11"/>
          <p:cNvPicPr/>
          <p:nvPr/>
        </p:nvPicPr>
        <p:blipFill>
          <a:blip r:embed="rId7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1565776443_11"/>
          <p:cNvPicPr/>
          <p:nvPr/>
        </p:nvPicPr>
        <p:blipFill>
          <a:blip r:embed="rId8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1565776443_11"/>
          <p:cNvPicPr/>
          <p:nvPr/>
        </p:nvPicPr>
        <p:blipFill>
          <a:blip r:embed="rId4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"/>
          <p:cNvSpPr/>
          <p:nvPr/>
        </p:nvSpPr>
        <p:spPr>
          <a:xfrm>
            <a:off x="755640" y="148428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. Количество добровольческих отрядов в образовательных организ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3"/>
          <p:cNvGraphicFramePr/>
          <p:nvPr/>
        </p:nvGraphicFramePr>
        <p:xfrm>
          <a:off x="324000" y="2503440"/>
          <a:ext cx="8640720" cy="409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503440"/>
                    <a:ext cx="864072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4"/>
          <p:cNvGraphicFramePr/>
          <p:nvPr/>
        </p:nvGraphicFramePr>
        <p:xfrm>
          <a:off x="324000" y="2492280"/>
          <a:ext cx="8640720" cy="409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2492280"/>
                    <a:ext cx="864072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1565776443_11"/>
          <p:cNvPicPr/>
          <p:nvPr/>
        </p:nvPicPr>
        <p:blipFill>
          <a:blip r:embed="rId4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390600" y="134136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. Количество добровольцев (волонтеров) в образовательных организ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9"/>
          <p:cNvGraphicFramePr/>
          <p:nvPr/>
        </p:nvGraphicFramePr>
        <p:xfrm>
          <a:off x="324000" y="2492280"/>
          <a:ext cx="8640720" cy="409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492280"/>
                    <a:ext cx="864072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71832_x922"/>
          <p:cNvPicPr/>
          <p:nvPr/>
        </p:nvPicPr>
        <p:blipFill>
          <a:blip r:embed="rId4"/>
          <a:stretch/>
        </p:blipFill>
        <p:spPr>
          <a:xfrm>
            <a:off x="7812000" y="260280"/>
            <a:ext cx="863640" cy="935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1407960" y="333360"/>
            <a:ext cx="63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Целевой показатель проекта «Учитель будуще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35040" y="2421000"/>
          <a:ext cx="7873920" cy="3672000"/>
        </p:xfrm>
        <a:graphic>
          <a:graphicData uri="http://schemas.openxmlformats.org/drawingml/2006/table">
            <a:tbl>
              <a:tblPr/>
              <a:tblGrid>
                <a:gridCol w="1257120"/>
                <a:gridCol w="2743200"/>
                <a:gridCol w="774720"/>
                <a:gridCol w="774720"/>
                <a:gridCol w="774720"/>
                <a:gridCol w="774720"/>
                <a:gridCol w="774720"/>
              </a:tblGrid>
              <a:tr h="367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будущ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чителей ОО, вовлеченных в национальную систему профессионального роста педагогически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1692360" y="476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Цифровая образовательная сре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71830_x922"/>
          <p:cNvPicPr/>
          <p:nvPr/>
        </p:nvPicPr>
        <p:blipFill>
          <a:blip r:embed="rId4"/>
          <a:stretch/>
        </p:blipFill>
        <p:spPr>
          <a:xfrm>
            <a:off x="7812000" y="333360"/>
            <a:ext cx="719280" cy="934920"/>
          </a:xfrm>
          <a:prstGeom prst="rect">
            <a:avLst/>
          </a:prstGeom>
          <a:ln w="0">
            <a:noFill/>
          </a:ln>
        </p:spPr>
      </p:pic>
      <p:grpSp>
        <p:nvGrpSpPr>
          <p:cNvPr id="167" name="Organization Chart 10"/>
          <p:cNvGrpSpPr/>
          <p:nvPr/>
        </p:nvGrpSpPr>
        <p:grpSpPr>
          <a:xfrm>
            <a:off x="731880" y="2060640"/>
            <a:ext cx="7583400" cy="4299120"/>
            <a:chOff x="731880" y="2060640"/>
            <a:chExt cx="7583400" cy="4299120"/>
          </a:xfrm>
        </p:grpSpPr>
        <p:cxnSp>
          <p:nvCxnSpPr>
            <p:cNvPr id="168" name="_s1028"/>
            <p:cNvCxnSpPr>
              <a:stCxn id="169" idx="0"/>
              <a:endCxn id="170" idx="2"/>
            </p:cNvCxnSpPr>
            <p:nvPr/>
          </p:nvCxnSpPr>
          <p:spPr>
            <a:xfrm flipV="1">
              <a:off x="4523400" y="3780000"/>
              <a:ext cx="8640" cy="86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29"/>
            <p:cNvSpPr/>
            <p:nvPr/>
          </p:nvSpPr>
          <p:spPr>
            <a:xfrm>
              <a:off x="731880" y="2060640"/>
              <a:ext cx="7583400" cy="171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выделено и поставле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борудование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 2 102 152,88 рублей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0"/>
            <p:cNvSpPr/>
            <p:nvPr/>
          </p:nvSpPr>
          <p:spPr>
            <a:xfrm>
              <a:off x="731880" y="4640040"/>
              <a:ext cx="7583400" cy="171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поставлено и оплаче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борудование в полном объ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1979640" y="26028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Целевой показатель проекта«Поддержка семей, имеющих дет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71828_x922"/>
          <p:cNvPicPr/>
          <p:nvPr/>
        </p:nvPicPr>
        <p:blipFill>
          <a:blip r:embed="rId4"/>
          <a:stretch/>
        </p:blipFill>
        <p:spPr>
          <a:xfrm>
            <a:off x="7956720" y="189000"/>
            <a:ext cx="7920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635040" y="2647800"/>
          <a:ext cx="7873920" cy="3733920"/>
        </p:xfrm>
        <a:graphic>
          <a:graphicData uri="http://schemas.openxmlformats.org/drawingml/2006/table">
            <a:tbl>
              <a:tblPr/>
              <a:tblGrid>
                <a:gridCol w="1257120"/>
                <a:gridCol w="2743200"/>
                <a:gridCol w="774720"/>
                <a:gridCol w="774720"/>
                <a:gridCol w="774720"/>
                <a:gridCol w="774720"/>
                <a:gridCol w="774720"/>
              </a:tblGrid>
              <a:tr h="373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семей, имеющих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не менее 20 тыс. услуг психолого-педагогической, методической и консультативной помощи родителям (законным представителям) детей, а также гражданам, желающим принять на воспитание в свои семьи детей, оставшихся без попечения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71828_x922"/>
          <p:cNvPicPr/>
          <p:nvPr/>
        </p:nvPicPr>
        <p:blipFill>
          <a:blip r:embed="rId4"/>
          <a:stretch/>
        </p:blipFill>
        <p:spPr>
          <a:xfrm>
            <a:off x="7740720" y="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24000" y="119700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 Оказание не менее 20 тыс. услуг психолого-педагогической, методической и консультативной помощи родителям (законным представителям) детей, а также гражданам, желающим принять на воспитание в свои семьи детей, оставшихся без попечения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10"/>
          <p:cNvGraphicFramePr/>
          <p:nvPr/>
        </p:nvGraphicFramePr>
        <p:xfrm>
          <a:off x="324000" y="3429000"/>
          <a:ext cx="8640720" cy="315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429000"/>
                    <a:ext cx="864072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11"/>
          <p:cNvSpPr/>
          <p:nvPr/>
        </p:nvSpPr>
        <p:spPr>
          <a:xfrm>
            <a:off x="1979640" y="0"/>
            <a:ext cx="51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Поддержка семей, имеющих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5148360" cy="2692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31 день откр"/>
          <p:cNvPicPr/>
          <p:nvPr/>
        </p:nvPicPr>
        <p:blipFill>
          <a:blip r:embed="rId3"/>
          <a:stretch/>
        </p:blipFill>
        <p:spPr>
          <a:xfrm>
            <a:off x="3635280" y="3500280"/>
            <a:ext cx="5303880" cy="3121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emblema"/>
          <p:cNvPicPr/>
          <p:nvPr/>
        </p:nvPicPr>
        <p:blipFill>
          <a:blip r:embed="rId4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24000" y="1341360"/>
            <a:ext cx="309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онный центр для родителей (законных представителей) детей, не посещающих дошкольное учреждение в МАДОУ «Детский сад № 93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Схема 1" descr=""/>
          <p:cNvPicPr/>
          <p:nvPr/>
        </p:nvPicPr>
        <p:blipFill>
          <a:blip r:embed="rId2"/>
          <a:stretch/>
        </p:blipFill>
        <p:spPr>
          <a:xfrm>
            <a:off x="176040" y="1835280"/>
            <a:ext cx="8967960" cy="4376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71828_x922"/>
          <p:cNvPicPr/>
          <p:nvPr/>
        </p:nvPicPr>
        <p:blipFill>
          <a:blip r:embed="rId4"/>
          <a:stretch/>
        </p:blipFill>
        <p:spPr>
          <a:xfrm>
            <a:off x="7740720" y="26028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0"/>
          <p:cNvSpPr/>
          <p:nvPr/>
        </p:nvSpPr>
        <p:spPr>
          <a:xfrm>
            <a:off x="1979640" y="18900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екта«Поддержка семей, имеющих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emblema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1324080" y="0"/>
            <a:ext cx="684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евые показатели проекта «Содействие занятости женщин, создание условий дошкольного образования для детей в возрасте до 3-х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71730_x600"/>
          <p:cNvPicPr/>
          <p:nvPr/>
        </p:nvPicPr>
        <p:blipFill>
          <a:blip r:embed="rId3"/>
          <a:stretch/>
        </p:blipFill>
        <p:spPr>
          <a:xfrm>
            <a:off x="7812000" y="260280"/>
            <a:ext cx="84132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635040" y="2565360"/>
          <a:ext cx="7873920" cy="3959280"/>
        </p:xfrm>
        <a:graphic>
          <a:graphicData uri="http://schemas.openxmlformats.org/drawingml/2006/table">
            <a:tbl>
              <a:tblPr/>
              <a:tblGrid>
                <a:gridCol w="1257120"/>
                <a:gridCol w="2743200"/>
                <a:gridCol w="774720"/>
                <a:gridCol w="774720"/>
                <a:gridCol w="774720"/>
                <a:gridCol w="774720"/>
                <a:gridCol w="774720"/>
              </a:tblGrid>
              <a:tr h="3959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занятости женщин- создание условий дошкольного образования для детей в возрасте до 3-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300 дополнительных мест для детей в возрасте от 2 месяцев до 3 лет в образовательных организациях: МАДОУ "Детский сад № 29", "Детский сад № 36", "Детский сад № 64", МАОУ "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68360" y="1484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КУ Отдел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г. Стерлитамак участвует в пяти региональных проектах в рамках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emblema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71730_x600"/>
          <p:cNvPicPr/>
          <p:nvPr/>
        </p:nvPicPr>
        <p:blipFill>
          <a:blip r:embed="rId3"/>
          <a:stretch/>
        </p:blipFill>
        <p:spPr>
          <a:xfrm>
            <a:off x="7812000" y="260280"/>
            <a:ext cx="841320" cy="936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611280" y="134136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Создание 300 дополнительных мест для детей в возрасте от 2 месяцев до 3 лет в образовательных организациях: МАДОУ "Детский сад № 29", "Детский сад № 36", "Детский сад № 64", МАОУ "Гимназия №1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835280" y="0"/>
            <a:ext cx="57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Содействие занятости женщин, создание условий дошкольного образования для детей в возрасте до 3-х ле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emblema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209" name="Схема 1" descr=""/>
          <p:cNvPicPr/>
          <p:nvPr/>
        </p:nvPicPr>
        <p:blipFill>
          <a:blip r:embed="rId3"/>
          <a:stretch/>
        </p:blipFill>
        <p:spPr>
          <a:xfrm>
            <a:off x="317520" y="1481040"/>
            <a:ext cx="8582040" cy="497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71730_x600"/>
          <p:cNvPicPr/>
          <p:nvPr/>
        </p:nvPicPr>
        <p:blipFill>
          <a:blip r:embed="rId4"/>
          <a:stretch/>
        </p:blipFill>
        <p:spPr>
          <a:xfrm>
            <a:off x="7812000" y="260280"/>
            <a:ext cx="841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1258920" y="1700280"/>
            <a:ext cx="76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ДОУ "Детский сад № 29"-20 ме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ДОУ "Детский сад № 36"- 20 м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ДОУ "Детский сад № 64"- 20 ме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ОУ "Гимназия №1"-240 мест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emblema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71730_x600"/>
          <p:cNvPicPr/>
          <p:nvPr/>
        </p:nvPicPr>
        <p:blipFill>
          <a:blip r:embed="rId3"/>
          <a:stretch/>
        </p:blipFill>
        <p:spPr>
          <a:xfrm>
            <a:off x="7812000" y="260280"/>
            <a:ext cx="841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619280" y="47628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егиональные проекты, входящие в национальные проек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1565776443_11"/>
          <p:cNvPicPr/>
          <p:nvPr/>
        </p:nvPicPr>
        <p:blipFill>
          <a:blip r:embed="rId4"/>
          <a:stretch/>
        </p:blipFill>
        <p:spPr>
          <a:xfrm>
            <a:off x="179280" y="4365720"/>
            <a:ext cx="863640" cy="93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166760" y="3284640"/>
            <a:ext cx="25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Современн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2907b8adb44f15418a31a629fb3434ed_M"/>
          <p:cNvPicPr/>
          <p:nvPr/>
        </p:nvPicPr>
        <p:blipFill>
          <a:blip r:embed="rId5"/>
          <a:stretch/>
        </p:blipFill>
        <p:spPr>
          <a:xfrm>
            <a:off x="179280" y="2997360"/>
            <a:ext cx="863640" cy="1081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1166760" y="4581360"/>
            <a:ext cx="28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Успех каждого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71832_x922"/>
          <p:cNvPicPr/>
          <p:nvPr/>
        </p:nvPicPr>
        <p:blipFill>
          <a:blip r:embed="rId6"/>
          <a:stretch/>
        </p:blipFill>
        <p:spPr>
          <a:xfrm>
            <a:off x="179280" y="5661000"/>
            <a:ext cx="863640" cy="934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5"/>
          <p:cNvSpPr/>
          <p:nvPr/>
        </p:nvSpPr>
        <p:spPr>
          <a:xfrm>
            <a:off x="1166760" y="5877000"/>
            <a:ext cx="227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Учитель буд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8" descr="71830_x922"/>
          <p:cNvPicPr/>
          <p:nvPr/>
        </p:nvPicPr>
        <p:blipFill>
          <a:blip r:embed="rId7"/>
          <a:stretch/>
        </p:blipFill>
        <p:spPr>
          <a:xfrm>
            <a:off x="4859280" y="3068640"/>
            <a:ext cx="719280" cy="934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0"/>
          <p:cNvSpPr/>
          <p:nvPr/>
        </p:nvSpPr>
        <p:spPr>
          <a:xfrm>
            <a:off x="5724360" y="314172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Цифровая образовательная сре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1" descr="71828_x922"/>
          <p:cNvPicPr/>
          <p:nvPr/>
        </p:nvPicPr>
        <p:blipFill>
          <a:blip r:embed="rId8"/>
          <a:stretch/>
        </p:blipFill>
        <p:spPr>
          <a:xfrm>
            <a:off x="4859280" y="429264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2"/>
          <p:cNvSpPr/>
          <p:nvPr/>
        </p:nvSpPr>
        <p:spPr>
          <a:xfrm>
            <a:off x="5775480" y="4456080"/>
            <a:ext cx="311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держка семей, имеющих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5" descr="71730_x600"/>
          <p:cNvPicPr/>
          <p:nvPr/>
        </p:nvPicPr>
        <p:blipFill>
          <a:blip r:embed="rId9"/>
          <a:stretch/>
        </p:blipFill>
        <p:spPr>
          <a:xfrm>
            <a:off x="4859280" y="5661000"/>
            <a:ext cx="841320" cy="93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6"/>
          <p:cNvSpPr/>
          <p:nvPr/>
        </p:nvSpPr>
        <p:spPr>
          <a:xfrm>
            <a:off x="5867280" y="5589720"/>
            <a:ext cx="327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действие занятости женщин- создание условий дошкольного образования для детей в возрасте до 3-х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7" descr="71832_x922"/>
          <p:cNvPicPr/>
          <p:nvPr/>
        </p:nvPicPr>
        <p:blipFill>
          <a:blip r:embed="rId10"/>
          <a:stretch/>
        </p:blipFill>
        <p:spPr>
          <a:xfrm>
            <a:off x="179280" y="566100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250920" y="2133720"/>
          <a:ext cx="8785080" cy="4497120"/>
        </p:xfrm>
        <a:graphic>
          <a:graphicData uri="http://schemas.openxmlformats.org/drawingml/2006/table">
            <a:tbl>
              <a:tblPr/>
              <a:tblGrid>
                <a:gridCol w="1225440"/>
                <a:gridCol w="2087640"/>
                <a:gridCol w="804960"/>
                <a:gridCol w="668160"/>
                <a:gridCol w="668520"/>
                <a:gridCol w="668160"/>
                <a:gridCol w="668520"/>
                <a:gridCol w="1993680"/>
              </a:tblGrid>
              <a:tr h="243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ая шко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еспечена возможность изучить предметную область "Технология" и других предметных областей на базе организаций, имеющих высокооснащенный ученико-места, в т.ч. детских технопарков "Кванториум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 (2 208 че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 (6746 че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 (6746 че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й показатель достигнут. На базе МАОУ "СОШ №№ 2,14,15,18,35,29" будут проведены обновления обору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оздание новых мест в общеобразовательных организациях (продолжение реализации приоритетного проекта "Современная образовательная среда для школьников"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 м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й показатель достигнут за счет открытия школы на 1225  мест  (МАОУ "СОШ №23 "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310" descr="1565776443_11"/>
          <p:cNvPicPr/>
          <p:nvPr/>
        </p:nvPicPr>
        <p:blipFill>
          <a:blip r:embed="rId4"/>
          <a:stretch/>
        </p:blipFill>
        <p:spPr>
          <a:xfrm>
            <a:off x="8172360" y="189000"/>
            <a:ext cx="7905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11"/>
          <p:cNvSpPr/>
          <p:nvPr/>
        </p:nvSpPr>
        <p:spPr>
          <a:xfrm>
            <a:off x="1619280" y="260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Целевые показатели проекта «СОВРЕМЕННАЯ 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1565776443_11"/>
          <p:cNvPicPr/>
          <p:nvPr/>
        </p:nvPicPr>
        <p:blipFill>
          <a:blip r:embed="rId4"/>
          <a:stretch/>
        </p:blipFill>
        <p:spPr>
          <a:xfrm>
            <a:off x="8172360" y="189000"/>
            <a:ext cx="790560" cy="100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835280" y="4964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«СОВРЕМЕННАЯ ШКОЛА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1341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Обеспечена возможность изучить предметную область "Технология" и других предметных областей на базе организаций, имеющих высокооснащенный ученико-места, в т.ч. детских технопарков "Квантори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31"/>
          <p:cNvGraphicFramePr/>
          <p:nvPr/>
        </p:nvGraphicFramePr>
        <p:xfrm>
          <a:off x="371520" y="2852640"/>
          <a:ext cx="8232840" cy="374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520" y="2852640"/>
                    <a:ext cx="823284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50920" y="126828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Создание новых мест в общеобразовательных организациях (продолжение реализации приоритетного проекта "Современная образовательная среда для школьников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XXL (1)"/>
          <p:cNvPicPr/>
          <p:nvPr/>
        </p:nvPicPr>
        <p:blipFill>
          <a:blip r:embed="rId4"/>
          <a:stretch/>
        </p:blipFill>
        <p:spPr>
          <a:xfrm>
            <a:off x="971640" y="2924280"/>
            <a:ext cx="712764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565776443_11"/>
          <p:cNvPicPr/>
          <p:nvPr/>
        </p:nvPicPr>
        <p:blipFill>
          <a:blip r:embed="rId5"/>
          <a:stretch/>
        </p:blipFill>
        <p:spPr>
          <a:xfrm>
            <a:off x="7885080" y="189000"/>
            <a:ext cx="7905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565776443_11"/>
          <p:cNvPicPr/>
          <p:nvPr/>
        </p:nvPicPr>
        <p:blipFill>
          <a:blip r:embed="rId4"/>
          <a:stretch/>
        </p:blipFill>
        <p:spPr>
          <a:xfrm>
            <a:off x="8172360" y="189000"/>
            <a:ext cx="7905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1692360" y="1890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Целевые показатели проекта «Успех каждого ребен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844640"/>
          <a:ext cx="8713800" cy="4846680"/>
        </p:xfrm>
        <a:graphic>
          <a:graphicData uri="http://schemas.openxmlformats.org/drawingml/2006/table">
            <a:tbl>
              <a:tblPr/>
              <a:tblGrid>
                <a:gridCol w="958680"/>
                <a:gridCol w="2087640"/>
                <a:gridCol w="590400"/>
                <a:gridCol w="588960"/>
                <a:gridCol w="590760"/>
                <a:gridCol w="590400"/>
                <a:gridCol w="588960"/>
                <a:gridCol w="2718000"/>
              </a:tblGrid>
              <a:tr h="8240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х каждого ребе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Доступность дополнительного образования для детей в возрасте от 5 до18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ые показатели достигнуты за счет  расширения всех форм собственности в сфере дополните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Доля граждан удовлетворенных качеством оказываемых муниципальных услуг по дополнительному образованию составит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ли исследование  совместно с АНО ДПО "Открытое образование" ,посвященное изучению запросов семей,имеющих детей в возрасте от 5 до 18 л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Эффективность работы с одаренными и способными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% (13789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% (17392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%(17392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%(17392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школьников во Всероссийских олимпиадах,конференциях,оргазизация профельных смен "Уникум",реализация проекта "Билет в будущее"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оличество добровольческих отрядов в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ые показатели достигнуты за счет высокой социальной активности школьни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Количество добровольцев (волонтеров) в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1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ые показатели достигнуты . 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187280" y="6397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Успех каждого ребен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1565776443_11"/>
          <p:cNvPicPr/>
          <p:nvPr/>
        </p:nvPicPr>
        <p:blipFill>
          <a:blip r:embed="rId4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468360" y="1700280"/>
            <a:ext cx="84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Доступность дополнительного образования для детей в возрасте от 5 до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9"/>
          <p:cNvGraphicFramePr/>
          <p:nvPr/>
        </p:nvGraphicFramePr>
        <p:xfrm>
          <a:off x="0" y="2421000"/>
          <a:ext cx="9144000" cy="417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421000"/>
                    <a:ext cx="9144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10" descr="1565776443_11"/>
          <p:cNvPicPr/>
          <p:nvPr/>
        </p:nvPicPr>
        <p:blipFill>
          <a:blip r:embed="rId7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1565776443_11"/>
          <p:cNvPicPr/>
          <p:nvPr/>
        </p:nvPicPr>
        <p:blipFill>
          <a:blip r:embed="rId8"/>
          <a:stretch/>
        </p:blipFill>
        <p:spPr>
          <a:xfrm>
            <a:off x="7812000" y="260280"/>
            <a:ext cx="863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Light-Simplistic-Business-Backgrou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971640" y="1936800"/>
            <a:ext cx="738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О реализации национального проект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«Образо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Light-Simplistic-Business-Backgroun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emblema"/>
          <p:cNvPicPr/>
          <p:nvPr/>
        </p:nvPicPr>
        <p:blipFill>
          <a:blip r:embed="rId3"/>
          <a:stretch/>
        </p:blipFill>
        <p:spPr>
          <a:xfrm>
            <a:off x="179280" y="189000"/>
            <a:ext cx="1584360" cy="863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250920" y="1341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Доля граждан удовлетворенных качеством оказываемых муниципальных услуг по дополнительному обра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565776443_11"/>
          <p:cNvPicPr/>
          <p:nvPr/>
        </p:nvPicPr>
        <p:blipFill>
          <a:blip r:embed="rId4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Object 9"/>
          <p:cNvGraphicFramePr/>
          <p:nvPr/>
        </p:nvGraphicFramePr>
        <p:xfrm>
          <a:off x="0" y="2565360"/>
          <a:ext cx="9144000" cy="403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565360"/>
                    <a:ext cx="9144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10" descr="1565776443_11"/>
          <p:cNvPicPr/>
          <p:nvPr/>
        </p:nvPicPr>
        <p:blipFill>
          <a:blip r:embed="rId7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565776443_11"/>
          <p:cNvPicPr/>
          <p:nvPr/>
        </p:nvPicPr>
        <p:blipFill>
          <a:blip r:embed="rId8"/>
          <a:stretch/>
        </p:blipFill>
        <p:spPr>
          <a:xfrm>
            <a:off x="7885080" y="333360"/>
            <a:ext cx="7905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04T03:42:09Z</dcterms:modified>
  <cp:revision>9</cp:revision>
  <dc:subject/>
  <dc:title>Слайд 1</dc:title>
</cp:coreProperties>
</file>